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E75-1B06-4D34-9E1E-B2E6D64E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73C-4AA8-46E8-8A0B-4AEBB650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862-0BC5-41B4-B6B4-14B0E2DE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097-DAA4-4BE8-9770-040704AE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8DC-D445-4B6B-8448-4DB5C561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89F-3C56-44A0-B748-83F70789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C1E6-214D-45B4-A4E7-EB371160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118F-1AD6-47EC-B3F8-F431AB9A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5D9-A0C8-43BD-B99D-E463A9EF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BAE-F233-45E4-923A-66707CB6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5F4-9AAE-4BAE-8916-E4736E1B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A2E3-C4B0-4A9D-B2DB-1DDD51E2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C7AF-C5C7-4C18-974B-F825F6988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11640" y="981000"/>
            <a:ext cx="4932360" cy="5877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211640" cy="5877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819440" y="189000"/>
            <a:ext cx="46083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.Opinión Pública...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476280"/>
            <a:ext cx="8642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¿Cómo funciono el expression on a controversial topic en la gente que escuchó el programa?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meramente la gente adopto una postura un tanto incrédula a lo que estaban escuchando, se mantenían al margen de los hechos y aunque se intrigaban por lo que supuestamente estaba sucediendo aún mantenían cierto grado de especu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12000" y="3429000"/>
            <a:ext cx="313200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625920" y="4221000"/>
            <a:ext cx="1809720" cy="1810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313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12000" y="3429000"/>
            <a:ext cx="313200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625920" y="4221000"/>
            <a:ext cx="1809720" cy="1810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3132000" cy="3429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476280"/>
            <a:ext cx="8642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2.- ¿Cómo funcionó el expression of an attitude?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forme la transmisión fue avanzando la credibilidad de la información se fue acrecentando, las especulaciones comenzaban a tomar fuerza y los primeros brotes de pánico se dieron a lu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2000" y="3429000"/>
            <a:ext cx="3132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625920" y="4221000"/>
            <a:ext cx="1809720" cy="181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3132000" cy="3429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476280"/>
            <a:ext cx="8642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3.- ¿Cómo funcionó el attitude?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bido al gran realismo que impuso Orson Welles en la transmisión la gente creyó completamente en su transmisión y el pánico no se hizo esperar provocando miles de llamadas a la estación radiofónica y ciertas medidas preventivas tomadas por la sociedad tales como bloquear los accesos a su respectivas residencias y estar completamente pendientes de la transm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25920" y="4221000"/>
            <a:ext cx="1809720" cy="1810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313200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476280"/>
            <a:ext cx="86421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.- Cita un ejemplo de las tres partes del postulado expresadas en la pregunta anterior que hayas detectado en algún asunto que haya sido discutido en la opinión públ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aso del aumento de la tarifa al transporte público, al principio la gente comentaba un tanto molesta en cuanto a la situación, posteriormente la actitud se incrementaba en base a manifestaciones y demás protestas y finalmente solo quedo la indignación por parte del público que se beneficia de este servi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286680" y="4809960"/>
            <a:ext cx="2857320" cy="2048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524720" y="3429000"/>
            <a:ext cx="981000" cy="1352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659640" y="3789360"/>
            <a:ext cx="6778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07:05:45Z</dcterms:created>
  <dc:creator>WinuE</dc:creator>
  <dc:description/>
  <dc:language>en-US</dc:language>
  <cp:lastModifiedBy>WinuE</cp:lastModifiedBy>
  <dcterms:modified xsi:type="dcterms:W3CDTF">2009-09-03T07:32:57Z</dcterms:modified>
  <cp:revision>2</cp:revision>
  <dc:subject/>
  <dc:title>Diapositiva 1</dc:title>
</cp:coreProperties>
</file>